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0AF-4368-4B66-9F47-4C20061B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C6E-7BD2-41D1-860A-6BFE6D2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8AF-2F9C-494F-AC42-ADBE4059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885-B6E2-40A8-8D73-6FDEAA73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2EA-A238-405E-A886-3A343DA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EB8-DA5C-49A5-9271-1E28D5DB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D21-1BA5-4B84-9EDF-3DF4523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251-C723-4B3C-A33C-FEFBFAAF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BC7-4AF6-4B2B-8474-D28ADAE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ABB-9DB2-4530-BAA5-1FBA369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9F3-E4F5-4052-9960-78FAB61C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A18-ACA8-42F5-802B-94DB2028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141-0ABD-40F2-9E1C-31E3A7CD1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geu9Vem6hHGjkAGcxXNyoA;_ylu=X3oDMTBzb3JwbzQ3BHNlYwNzYwRjb2xvA2FjMgR2dGlkA00wMDFfODk-/SIG=1iqv6us6o/EXP=1202318558/**http%3A//images.search.yahoo.com/images/view%3Fback=http%253A%252F%252Fsearch.yahoo.com%252Fsearch%253Fei%253DUTF-8%2526p%253Dpictures%252Bof%252Bamerican%252Bmoney%2526vm%253Dr%26w=380%26h=285%26imgurl=www.istockphoto.com%252Ffile_thumbview_approve%252F455084%252F2%252Fistockphoto_455084_money_fan.jpg%26size=48.2%26name=istockphoto_455084_money_fan.jpg%26rcurl=http%253A%252F%252Fwww.istockphoto.com%252Fimageindex%252F455%252F0%252F455084%26rurl=http%253A%252F%252Fwww.istockphoto.com%252Fimageindex%252F455%252F0%252F455084%26p=american%2Bmoney%26type=jpeg%26no=3%26tt=79%252C55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rel.gov/data/pix/Jpegs/0008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nrel.gov/data/pix/Jpegs/10470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nrel.gov/data/pix/Jpegs/03246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533520"/>
            <a:ext cx="6400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c3d91">
                        <a:alpha val="9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Biom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c3d91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4343400"/>
            <a:ext cx="82296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By: Brodey and Josh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380880"/>
            <a:ext cx="761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arbon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3048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rops like co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200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9880" y="3048120"/>
            <a:ext cx="12668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finely grou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5000" y="3048120"/>
            <a:ext cx="2819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separated into their component sug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32004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3809880"/>
            <a:ext cx="762120" cy="1295640"/>
          </a:xfrm>
          <a:prstGeom prst="downArrow">
            <a:avLst>
              <a:gd name="adj1" fmla="val 50000"/>
              <a:gd name="adj2" fmla="val 42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5880" y="556272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ugars are distilled to make ethano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71500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71800" y="556272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ch can be used as an alternative fu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57150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5486400"/>
            <a:ext cx="1985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ch releases carbon dioxi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239600">
            <a:off x="1143000" y="449532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7201400">
            <a:off x="-218160" y="3951720"/>
            <a:ext cx="2189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 is reabsorbed by the original cro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 rot="3477600">
            <a:off x="1333440" y="339048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304920"/>
            <a:ext cx="7162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Types Of Biom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b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ill G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119880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47920" y="3429000"/>
            <a:ext cx="10810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4800600"/>
            <a:ext cx="1203480" cy="141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1337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2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2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2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2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32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82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32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82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can make a variety of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 through 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ly inexhaustible fuel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clean-bur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3049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iomass is released carbon dioxide is released into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erials are very expen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www.istockphoto.com/file_thumbview_approve/455084/2/istockphoto_455084_money_f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581280" cy="267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16765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1523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is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685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is a renewable energy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iomass is renewable it pollutes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3360960"/>
          </a:xfrm>
          <a:prstGeom prst="rect">
            <a:avLst/>
          </a:prstGeom>
          <a:ln w="0">
            <a:noFill/>
          </a:ln>
        </p:spPr>
      </p:pic>
      <p:sp>
        <p:nvSpPr>
          <p:cNvPr id="75" name="Tree"/>
          <p:cNvSpPr/>
          <p:nvPr/>
        </p:nvSpPr>
        <p:spPr>
          <a:xfrm>
            <a:off x="1828800" y="2819520"/>
            <a:ext cx="1523880" cy="1581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380880"/>
            <a:ext cx="6248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newable Energy Sour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5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650"/>
                            </p:stCondLst>
                            <p:childTnLst>
                              <p:par>
                                <p:cTn id="409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4650"/>
                            </p:stCondLst>
                            <p:childTnLst>
                              <p:par>
                                <p:cTn id="41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provides 3% of the united state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 depend on fossil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can still pollute the air but not as much as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28848"/>
          <a:stretch/>
        </p:blipFill>
        <p:spPr>
          <a:xfrm>
            <a:off x="304920" y="1752480"/>
            <a:ext cx="4332240" cy="3587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14400" y="304920"/>
            <a:ext cx="7238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mpact on the Environmen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700"/>
                            </p:stCondLst>
                            <p:childTnLst>
                              <p:par>
                                <p:cTn id="458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ut 3 percent of biomass is used in the U.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 it can be used in Pennsyl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y use biomass for making energy from wood trash and other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2860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mass Used in the United Stat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280" y="1905120"/>
            <a:ext cx="4496040" cy="36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Photo of Wood Ch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9880"/>
            <a:ext cx="3047760" cy="2435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Photo of a Corn St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762120"/>
            <a:ext cx="3248280" cy="259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Photo of Switchgra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981080"/>
            <a:ext cx="3021120" cy="37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80880" y="6324480"/>
            <a:ext cx="2743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od ch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880" y="5943600"/>
            <a:ext cx="3029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3352680"/>
            <a:ext cx="282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n st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3:23Z</dcterms:created>
  <dc:creator>default</dc:creator>
  <dc:description/>
  <dc:language>en-US</dc:language>
  <cp:lastModifiedBy>default</cp:lastModifiedBy>
  <dcterms:modified xsi:type="dcterms:W3CDTF">2008-02-21T17:25:44Z</dcterms:modified>
  <cp:revision>24</cp:revision>
  <dc:subject/>
  <dc:title>Slide 1</dc:title>
</cp:coreProperties>
</file>